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0F7-6E7D-4630-9F5B-A692F56F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B06-C909-453E-956F-5148BA74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447-D71E-4881-AAEE-F6BAB0FD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A94-29F1-43C8-AA18-0CDA5642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74C-8051-459D-8DA5-368A7B16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B61-3A99-409F-86DB-CE7406AF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98E-3E0C-46C9-8408-16E6C58F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954-967E-43EB-9631-3A9B8764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90C-4AF5-48ED-826F-69F8D604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080-A3C1-4BAA-8411-5B4B7B73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089-B3DB-4A2E-B920-B0AA4414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3FB-6375-4B12-B7F8-D67B29B5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5EAC-1055-4BFB-A327-C9E2DBBAB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He’s funny, but Joan didn’t laugh.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He’ll be a great help if the work hasn’t been done.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Here’s when I’ll have to know if you’re staying with us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ere’s either juice or milk that’s here to drink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The great big hill wasn’t easy to climb up, and it can’t be hard to get down.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ey’ll either go on a picnic, or I’ll meet them at the zoo on Friday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Arial"/>
              </a:rPr>
              <a:t>I’m sure you’ll laugh when you see how funny the show is.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300" spc="-1" strike="noStrike">
                <a:solidFill>
                  <a:srgbClr val="000000"/>
                </a:solidFill>
                <a:latin typeface="Arial"/>
              </a:rPr>
              <a:t>It’s certainly the worst trip that we’ll ever make.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he’s a great friend, when I don’t know what to do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That’s the second letter that he’s written to his pen pal in China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We’ll see if there’s a great place to park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I’m glad you’re happy and aren’t sad.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He’ll either be here by noon, or he isn’t coming.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he’ll find out if they’ll be in second place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t certainly</a:t>
            </a: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wasn’t the worst game that</a:t>
            </a: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he’ll play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Kim’s first in line, but who’s second?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It’s certainly the worst storm she’s seen.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Mom doesn’t laugh when the room isn’t clean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15:55Z</dcterms:created>
  <dc:creator> </dc:creator>
  <dc:description/>
  <dc:language>en-US</dc:language>
  <cp:lastModifiedBy>Laura McDow</cp:lastModifiedBy>
  <dcterms:modified xsi:type="dcterms:W3CDTF">2010-09-21T15:16:38Z</dcterms:modified>
  <cp:revision>27</cp:revision>
  <dc:subject/>
  <dc:title>He is always happy.</dc:title>
</cp:coreProperties>
</file>